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DD54-7647-46A4-809B-A04CE0FDD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BE33-9836-42B1-BD7B-FC1D42F62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B9BC-478F-41B7-9CCE-526197CC2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9394-8904-49EE-B533-C0BADB8E1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8CA8-95EA-4151-8C3E-7F6DF70F4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5B3C-4933-41F4-90C6-CC63567F6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B1BE-1E76-4EE3-8BB7-59733088B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33C7-70D9-45DF-89A4-E9D8F2AB7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A5AF-7967-46CF-B136-9AAC4E927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9270-A733-4F3D-9BBF-DB0A5F8DE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2065-0634-4A60-93F4-773CD5804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9500-D258-496F-B1B9-7611ABEE6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A58577-995C-4B79-9C23-91BDB836183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11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1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4-01-08T17:26:42Z</dcterms:modified>
  <cp:revision>96</cp:revision>
  <dc:subject/>
  <dc:title>No Slide Title</dc:title>
</cp:coreProperties>
</file>